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AAF-5475-463B-9094-895387A6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3D4-0409-4BA6-AAE8-9C88D95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F37-1A95-4FBF-AD8F-6D52C489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906-7668-41A2-9555-0EA92804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1766-5F6A-44E7-A90D-5F8B1F69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FE8D-0337-4853-880C-053638C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D141-A782-4B05-9490-176D11E0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6388-5BD4-44EF-B4EF-60F51813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7560-6F31-4157-BCA4-8570A2BF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C2E9-3CD8-4F7B-B375-8C64293A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FB9A-B14E-46DB-9127-DF961B9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0A1-757B-4E13-9F86-BBF95822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D9EA-75C5-41C3-B6AA-1E47FD3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027A-2A6E-4B2D-929E-EF38A61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3B94-72A2-46AF-965B-6BAA0D32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442-1A39-42E6-BBE7-999DB626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1F8F-8184-4E5E-80BD-C8735504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DF6-DDB5-4F0D-BD16-4193B273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458-5D8A-4E98-82C9-9FFD5112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299-0BBE-49AF-94BE-5278207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570-4346-4164-84E5-ED89A6C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62A-6E78-4900-BCF9-865E91E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1FC-106C-4400-BC48-57957734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DF7-B8FD-43C2-88FF-4168353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EABF-14AC-49DC-BA55-B4DD26821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4395-1957-4DFB-B71F-170BCC8DC2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’m Thinking of a 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 way to revi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ot just for literature class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rategy can be used in any classroom, where there are new words a teacher wants the students to learn, so basically any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’m thinking of a word that we discussed in our study of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thinking of a word that we use daily in math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 Literature clas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vocabulary list for the week includes the wor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a quick activity to just review new words. Doesn’t have to involve any handout, can just be a quick game-lik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228240"/>
            <a:ext cx="6324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thinking of a word that is in this weeks vocabulary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the word are: a wide opening, or staring in wonder or fasc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amples of the word are: look, g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d is usually used as a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d is never used to describe someone looking around in bor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d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p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 means to stare in fascination or wonder. It can be used in the following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irl’s shirt was so low-cut that all the boys ga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3:51:48Z</dcterms:created>
  <dc:creator> C02</dc:creator>
  <dc:description/>
  <dc:language>en-US</dc:language>
  <cp:lastModifiedBy> C02</cp:lastModifiedBy>
  <dcterms:modified xsi:type="dcterms:W3CDTF">2011-06-01T14:20:00Z</dcterms:modified>
  <cp:revision>2</cp:revision>
  <dc:subject/>
  <dc:title>I’m Thinking of a Word</dc:title>
</cp:coreProperties>
</file>